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55E-506A-46C1-B9C4-303D8AFD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57B1-2F0A-47A5-B4E8-9C1356E8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A6A-18BB-41D9-BF1F-0A0AB730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0E9-F665-4C81-838E-2F8AA07D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EF9F-B5EE-41A2-B540-5BFE8B31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65E0-07F3-4BD2-8E38-B4D0B9EE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C404-0CE0-4F48-8701-9C1B7D49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3FE5-07E7-42D6-988C-547C653D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7D55-E848-4EE9-B3E7-EA6DA72A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AB8B-0EFC-40E2-8F93-19683583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7819-C3F5-4C4E-8DAA-2E456E77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5A9-8359-4A74-9822-F93EACDD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9AB9-9B94-4DCC-84AF-2A576083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2978-9E5E-45AB-BAEB-0E4E6647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A8A5-051B-4017-8112-920342BC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73D7-657C-4F7B-B2D1-B6EC859E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AFE0-E020-4A76-A5E3-3585F7D9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C8D-BDD8-4EA7-8BD4-C971C737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AB2-9CF1-47E2-92B0-593511F6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C4F-E265-4D7F-B17C-90709A3D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51D4-0624-4EF1-B919-B2DAC772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D9C-DE75-4675-9ACC-E6328C21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222-55BB-42F5-B5C8-D94F46D2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C48-B3F0-4405-8896-8E951FB6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1B3D-24EF-4BE3-A138-5A674858916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2A40-CF2F-421F-8C4C-D729F041F67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411280" y="2637000"/>
            <a:ext cx="42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Script MT Bold"/>
              </a:rPr>
              <a:t>Daumier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Script MT Bold"/>
              </a:rPr>
              <a:t>Dos escult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24664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Script MT Bold"/>
              </a:rPr>
              <a:t>Saltimbanquis erran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31128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Script MT Bold"/>
              </a:rPr>
              <a:t>El levanta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57610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Script MT Bold"/>
              </a:rPr>
              <a:t>El</a:t>
            </a:r>
            <a:r>
              <a:rPr b="1" lang="en-US" sz="3900" spc="-1" strike="noStrike">
                <a:solidFill>
                  <a:srgbClr val="330066"/>
                </a:solidFill>
                <a:latin typeface="Script MT Bold"/>
              </a:rPr>
              <a:t> </a:t>
            </a:r>
            <a:r>
              <a:rPr b="1" lang="en-US" sz="3900" spc="-1" strike="noStrike">
                <a:solidFill>
                  <a:srgbClr val="cccc00"/>
                </a:solidFill>
                <a:latin typeface="Script MT Bold"/>
              </a:rPr>
              <a:t>coleccionista de impres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3471840" cy="434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457200" y="1719360"/>
          <a:ext cx="8229240" cy="4407120"/>
        </p:xfrm>
        <a:graphic>
          <a:graphicData uri="http://schemas.openxmlformats.org/drawingml/2006/table">
            <a:tbl>
              <a:tblPr/>
              <a:tblGrid>
                <a:gridCol w="430920"/>
                <a:gridCol w="7798320"/>
              </a:tblGrid>
              <a:tr h="440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936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00"/>
                </a:solidFill>
                <a:latin typeface="Script MT Bold"/>
              </a:rPr>
              <a:t>Laveuse au Quai d'Anjo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2881080" cy="42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3:06:02Z</dcterms:created>
  <dc:creator>Pc 5</dc:creator>
  <dc:description/>
  <dc:language>en-US</dc:language>
  <cp:lastModifiedBy>Pc 5</cp:lastModifiedBy>
  <dcterms:modified xsi:type="dcterms:W3CDTF">2008-12-19T13:12:41Z</dcterms:modified>
  <cp:revision>1</cp:revision>
  <dc:subject/>
  <dc:title>Diapositiva 1</dc:title>
</cp:coreProperties>
</file>